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E768-E3D4-4B97-8A0B-6C97D58E1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Factor = normal distribution scaled to specific neighborhood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DDA-898E-4BC8-853A-C5DF6E2C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19320" y="381816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414-3830-4CB3-AAD6-A9180774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200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841-04E0-48CC-850B-F7C13EB0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732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496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1932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732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496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D05-1A72-4A6B-B807-6020858D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94C3-0AB3-40A8-A721-9517BC71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CF2B-D40C-4866-BA9B-719279BA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7F65-7D70-4943-98C2-B4782ABA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04ED-D78F-4C36-831C-C33CDBC2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046A-5DBB-4B04-AD07-3BF44C3C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932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18FF-342A-489C-9161-1A7101D4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166E-45CE-4A08-93FA-9B4F509C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BDD-45F6-46D1-A021-352EBC38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0200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13C1-E4D7-4E5A-A31F-D09A18A1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CECB-3983-4E91-ACFC-814F6186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19320" y="381816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7024-74FF-423D-88A8-F604F7E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0200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58F6-674B-414C-A096-DB5D6DA0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732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74960" y="129492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1932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732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74960" y="381816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80E7-4AEB-4714-8FEB-84CF8672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1B1-FBF6-4360-93F3-C9C138D8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5BE-7857-4AF1-8D09-A3C0C5E0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61C-68B0-4E37-891A-7017098B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963-49E1-4B4F-A40F-23E2A5D1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CB3-A8BC-4A92-95A4-0D5CA4DC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02000" y="381816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282-16D6-4445-8A90-6BAB690D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2000" y="129492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9320" y="381816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667-D4B2-4DB9-8C5F-33B6AA07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9320" y="1066680"/>
            <a:ext cx="784836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720920" y="6673680"/>
            <a:ext cx="14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Arial"/>
              </a:rPr>
              <a:t>COPYRIGHT 2002-2004 AARON FARBER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447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098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934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447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098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34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20920" y="6673680"/>
            <a:ext cx="14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Arial"/>
              </a:rPr>
              <a:t>COPYRIGHT 2002-2004 AARON FARBER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ug Dealer Probl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Juran’s Just-In-Tim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y Ba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ian Br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a Theophi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hur W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escription – Purchasing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19320" y="1447920"/>
          <a:ext cx="7772400" cy="3657600"/>
        </p:xfrm>
        <a:graphic>
          <a:graphicData uri="http://schemas.openxmlformats.org/drawingml/2006/table">
            <a:tbl>
              <a:tblPr/>
              <a:tblGrid>
                <a:gridCol w="2306520"/>
                <a:gridCol w="1366920"/>
                <a:gridCol w="1365120"/>
                <a:gridCol w="1366920"/>
                <a:gridCol w="1366920"/>
              </a:tblGrid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Quantity Purch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Jers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orecasted Dem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orecast Quantity S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ll 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Quantity Purcha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371600" y="5334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52578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5334120"/>
          <a:ext cx="4952880" cy="1490400"/>
        </p:xfrm>
        <a:graphic>
          <a:graphicData uri="http://schemas.openxmlformats.org/drawingml/2006/table">
            <a:tbl>
              <a:tblPr/>
              <a:tblGrid>
                <a:gridCol w="2638440"/>
                <a:gridCol w="2314440"/>
              </a:tblGrid>
              <a:tr h="380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Income Statement - Forec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284,25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ariabl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ixed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ofit (Lo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84,250.00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escription – Inventory Allocation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19320" y="1295280"/>
          <a:ext cx="7238880" cy="3083040"/>
        </p:xfrm>
        <a:graphic>
          <a:graphicData uri="http://schemas.openxmlformats.org/drawingml/2006/table">
            <a:tbl>
              <a:tblPr/>
              <a:tblGrid>
                <a:gridCol w="2058840"/>
                <a:gridCol w="932040"/>
                <a:gridCol w="1415880"/>
                <a:gridCol w="1416240"/>
                <a:gridCol w="1415880"/>
              </a:tblGrid>
              <a:tr h="3297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orecast De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ll 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ctual Demand (Random Factor calculated using Crystal Bal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,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2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6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ll 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,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219320" y="4648320"/>
          <a:ext cx="7543800" cy="1858680"/>
        </p:xfrm>
        <a:graphic>
          <a:graphicData uri="http://schemas.openxmlformats.org/drawingml/2006/table">
            <a:tbl>
              <a:tblPr/>
              <a:tblGrid>
                <a:gridCol w="2009520"/>
                <a:gridCol w="1762200"/>
                <a:gridCol w="2009880"/>
                <a:gridCol w="1762200"/>
              </a:tblGrid>
              <a:tr h="54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Income Statement - Forec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Income Statement - A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284,25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281,37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ariabl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ariabl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ixed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ixed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0,00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ofit (Lo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84,250.00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ofit (Los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81,370.00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Encoun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model ran solv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ximize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r determined how much of each drug to order, but demand varied each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r could effectively “look into the future” and optimize purchases using future demand (no overstock or underst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overstated monthly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Encoun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Run Solver Tw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Run: Based on Forecast Demand, Purchase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quantity rule: Optimize quantity ordered based on last month’s actual demand in order to maximize expected prof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variables determined by maximizing expected profits, given forecast demand as well as supply and budgetar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Run: Based on Actual Demand, Selling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order quantities, use solver to allocate drugs to each neighborhood to maximize expected revenu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&amp; Future Complex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principle of this model is applicable to many retail or inventory- based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number of neighborhoods or types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inventory carryover from previous month (we have to cut Juran 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ore sophisticated forecasting methods to optimize order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diversion (to other drugs in inven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costs and constraints over time and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Closing Thought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lity is a crutch for people who can’t cope with drugs” –Lily Toml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’ve never had a problem with drugs, I’ve had problems with the police”  -Keith Richar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God dropped acid, would he see people?” –Steven Wrig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ugs have taught an entire generation of American kids the metric system” – P.J. O’Rourk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n’t do drugs ‘cause if you do drugs, you’ll go to prison, and drugs are very expensive in prison” –John Hardwi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0760" cy="741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565632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1220760" cy="854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0" y="4027320"/>
            <a:ext cx="122076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619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 up with on-campus recruiting, Arthur, Damian, Dan and Sofia decide to become entrepreneurs and start their own drug selling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 office visit, Professor Juran expresses an interest in diversifying his investments beyond beer brewing and gives the new entity (“Juran’s Just-in-Time Goody Bags”) $200,000 to start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estimonials from Washington Square park experts and observable demand from different neighborhoods, JJITGB will decide the follow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rug suppliers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 of drugs to 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ighborhoods to se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ision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termine where to purchase each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uth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ide how to allocate inventory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ju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sta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ross neighbor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ll Str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jective: Maximize profits for a given mon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drug, the best estimate of this month’s total demand (which we do not know), is last month’s total demand. (Key Assumptio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rugs must be ordered at the beginning of the month, before the current month’s demand i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carrying of inventory from one month to the next because any excess drugs goes to Juran as a special “dividen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capacity is known with certainty and is fixed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umptions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variable cost is the drug cost. All other costs are fixed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sts are known with certainty and are fixed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selling prices are certain and are fixed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our drug sales to the two most lucrative neighborh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aints &amp; Key Form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otation: 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nth; 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ug; 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i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month demand modeled 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[n, d, m] = Demand[n, d, m-1] + Random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Factor = N(0,1)*D(m-1)*Volatil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 drug d in month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Order Quantity[s, d, m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Demand[d, m-1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is constraint forces the model to order the optimal amount of drugs assuming that last month’s demand will be equal to this month’s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aints &amp; Key Formulas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supplier s and drug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[s, d, m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y[s, 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ordered from a supplier cannot exceed the supplier’s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drug d and neighborho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 Sold [n,d,m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mand[n,d,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sold cannot exceed the quantity dema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drug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antity Sold[n,d,m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Order Quantity[s,d,m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quantity sold cannot exceed the quantity in inven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aints &amp; Key Formulas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month (Actual and Fore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 Order Quantity[s,d,m] x Cost[s,d]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ixed Cost[n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ilable Funds 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Variable costs and fixed costs cannot exceed funds on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Description -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lord costs (Var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66680" y="1752480"/>
          <a:ext cx="7925040" cy="2922840"/>
        </p:xfrm>
        <a:graphic>
          <a:graphicData uri="http://schemas.openxmlformats.org/drawingml/2006/table">
            <a:tbl>
              <a:tblPr/>
              <a:tblGrid>
                <a:gridCol w="1895760"/>
                <a:gridCol w="1504800"/>
                <a:gridCol w="1509840"/>
                <a:gridCol w="1509480"/>
                <a:gridCol w="15051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upply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2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5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7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2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4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1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2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4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Jers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9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10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upply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o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ju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Jers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219320" y="5562720"/>
          <a:ext cx="7543800" cy="113508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2205000"/>
                <a:gridCol w="18338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ixed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ead: Sales, security, and strat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: Bribery and witness tampe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ll 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143000" y="4876920"/>
            <a:ext cx="586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Overhead (Fix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2:11:09Z</dcterms:created>
  <dc:creator> </dc:creator>
  <dc:description/>
  <dc:language>en-US</dc:language>
  <cp:lastModifiedBy>Damian Britt</cp:lastModifiedBy>
  <dcterms:modified xsi:type="dcterms:W3CDTF">2004-12-06T02:06:26Z</dcterms:modified>
  <cp:revision>42</cp:revision>
  <dc:subject/>
  <dc:title>??????</dc:title>
</cp:coreProperties>
</file>